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la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A3E8-D305-43B5-9197-9E7F89F80A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urb-iron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E4ED-4753-4B41-8E41-E0D07B13FD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itical to Web Project – Faculties are the corner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5EF3-1AE8-4302-8EF4-9107DC682E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F34F-1C92-47DB-B77C-E03286DB5C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D490-2A8A-4A9E-B7B8-5E54763D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222-8EB3-4712-BED2-912499A0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9526-F373-42EF-BC86-A339D799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9D1-51FA-4283-A4F4-B5B5C631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3AB0-5582-4EEE-8CF5-2E29572C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462C-238D-48E6-933F-A4AA8909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C0A5-091C-4F98-874B-647F9977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6E6C-E112-449F-9A5A-A7C61E89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E416-3E03-433C-87A9-D3E2C1B4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584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506C-E46C-48D3-9F6D-D418C60F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FA9D-2D98-4004-BEA8-058994C5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393-52EA-4C26-AFDA-CDE3045A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DE64-A1A1-4EDF-904D-39BAC4A4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D069-BAC5-45A7-884A-AA87EC57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2223-8E4E-4227-A7FF-CADEBA6E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1F0A-5D87-4D4F-940F-90B21ACF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8FB6-83E8-4B01-8354-08582A9D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7CAE8-EFA5-4420-8A56-242ECCA4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10F0D-9831-4C56-A1E3-A71A5A39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781A9-9A4F-465F-8033-B3E5AFF6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DF7B0-E67C-4374-8701-C10D8182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515FD-9ABC-4D9E-BA67-A7E0CBF8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6A4-8B5D-49F4-A4C2-66AF3869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584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7588E-412D-454A-8A5A-44BCF08E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151A5-FE6F-4234-A065-0C449D08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1247B-6490-4DDC-80FF-53786E95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691F5-5195-4548-BC3D-591F14CA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2D957-EF07-436A-AE17-FCC8C392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E82EB-178F-479B-9E00-21159DE1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4B6C5-1D46-468E-B81C-B5382107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8DF61-E6EC-41FD-B3DE-D2E869FA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47404-81B9-485B-9864-33E64D96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17DFA-A820-437B-BFD4-36DADA84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0B0-2A68-4D23-B8A2-99A0B36C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3FB87-1DB5-476C-A629-404527A4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3DA03-029B-48F9-947C-27AEE5DE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584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A6549-6AD8-4E3A-98AD-B295F456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36811-2E97-4A4E-A690-79D3CAA3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25990-3C8F-4FDA-B683-7916E961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11F26-074B-4814-9294-7B0C1F42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46B83-57B8-4DEF-9A9F-CF7D180D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87112-7389-4AE5-8379-9058B7B0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249228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39020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CF9FB-AFE0-4036-AF88-A9C056CC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CD7-876C-4F4C-A4C8-2745BBFA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5842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7A7-A9A0-437A-AFF5-DC42B03E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28C-6CF4-4360-8872-6A57644C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9020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DE3-8F3C-4E21-AB04-97A6795D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49228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9020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553D-DE33-4847-B4D4-CEEEA7D6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la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5843-7AEB-46D3-AEB7-7D2D6DF0DE9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TAB_col_white_background.eps"/>
          <p:cNvPicPr/>
          <p:nvPr/>
        </p:nvPicPr>
        <p:blipFill>
          <a:blip r:embed="rId2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TAB_col_white_background.eps"/>
          <p:cNvPicPr/>
          <p:nvPr/>
        </p:nvPicPr>
        <p:blipFill>
          <a:blip r:embed="rId2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AB_col_white_background.eps"/>
          <p:cNvPicPr/>
          <p:nvPr/>
        </p:nvPicPr>
        <p:blipFill>
          <a:blip r:embed="rId3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la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1AB9-BA07-4210-B6AC-A06138F70EF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TAB_col_white_background.eps"/>
          <p:cNvPicPr/>
          <p:nvPr/>
        </p:nvPicPr>
        <p:blipFill>
          <a:blip r:embed="rId2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AB_col_white_background.eps"/>
          <p:cNvPicPr/>
          <p:nvPr/>
        </p:nvPicPr>
        <p:blipFill>
          <a:blip r:embed="rId3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la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B09E-FA55-4099-ADB8-FE810E2EB72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TAB_col_white_background.eps"/>
          <p:cNvPicPr/>
          <p:nvPr/>
        </p:nvPicPr>
        <p:blipFill>
          <a:blip r:embed="rId2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TAB_col_white_background.eps"/>
          <p:cNvPicPr/>
          <p:nvPr/>
        </p:nvPicPr>
        <p:blipFill>
          <a:blip r:embed="rId3"/>
          <a:stretch/>
        </p:blipFill>
        <p:spPr>
          <a:xfrm>
            <a:off x="523800" y="509760"/>
            <a:ext cx="1663920" cy="711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la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l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94C0-A7D0-437C-ADD3-34DB5DB36B7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anchester.ac.uk/brand" TargetMode="Externa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andy.simmons@manchester.ac.uk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University Marketing web update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November 2013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l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l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Arila"/>
              </a:rPr>
              <a:t>Andy Simmons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Arila"/>
              </a:rPr>
              <a:t>Content Manager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Arila"/>
              </a:rPr>
              <a:t>University Marketing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-23760" y="-1764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Course profiles – next steps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Requirements for enhanced course profiles agreed and awaiting prioritisation and schedul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Integration of course units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How to define the relationship between corporate and School course profiles?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Separate from website redevelopment projec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Style guide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Revised and expand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New sections – more intuitiv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In advance of the content strand of the web projec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la"/>
                <a:hlinkClick r:id="rId1"/>
              </a:rPr>
              <a:t>www.manchester.ac.uk/brand</a:t>
            </a: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Columba events system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All Faculties and visitor attractions are using/planning to use Columba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Student recruitment, business engagement and student communications are recent adopters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Embedded event data enabling bespoke feeds on local sites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1267920"/>
            <a:ext cx="661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Part 2 – Corporate website redevelopment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Delivery by end of April 2014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Fully responsive desig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New site structure and page layou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New desig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New/updated content, optimised for search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Four strands of activity, four agenci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Project strands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Information architecture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la"/>
              </a:rPr>
              <a:t>IA image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la"/>
              </a:rPr>
              <a:t>Mobile designs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la"/>
              </a:rPr>
              <a:t>Desktop designs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Part 1 – What we’ve been up to since the last web network meeting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Template upgrad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Campus map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Course profiles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House style guide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Columba events system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Jodrell Bank Discovery centre website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221" name="Picture 2" descr="C:\Users\Victoria\AppData\Local\Microsoft\Windows\Temporary Internet Files\Content.IE5\I4RM47IB\MC900110849[1].wmf"/>
          <p:cNvPicPr/>
          <p:nvPr/>
        </p:nvPicPr>
        <p:blipFill>
          <a:blip r:embed="rId1"/>
          <a:stretch/>
        </p:blipFill>
        <p:spPr>
          <a:xfrm>
            <a:off x="2679840" y="2492280"/>
            <a:ext cx="36604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Using new site structure to audit existing and plan new cont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Enhancing our reputation and building the br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Working with Mediacom to optimise for searc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Site structure – complete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Wireframes – complete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Design – nearing completion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Build – imminent, pending agreement on design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Content audit – complete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Content creation – started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Consultation – ongoing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Testing – ongoing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l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la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Andy Simmons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Content Manager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University Marketing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la"/>
                <a:hlinkClick r:id="rId1"/>
              </a:rPr>
              <a:t>andy.simmons@manchester.ac.uk</a:t>
            </a: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52090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ounded Rectangle 4"/>
          <p:cNvSpPr/>
          <p:nvPr/>
        </p:nvSpPr>
        <p:spPr>
          <a:xfrm>
            <a:off x="7093080" y="476280"/>
            <a:ext cx="143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rger map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ounded Rectangle 5"/>
          <p:cNvSpPr/>
          <p:nvPr/>
        </p:nvSpPr>
        <p:spPr>
          <a:xfrm>
            <a:off x="7093080" y="1268280"/>
            <a:ext cx="143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xpanded data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ounded Rectangle 7"/>
          <p:cNvSpPr/>
          <p:nvPr/>
        </p:nvSpPr>
        <p:spPr>
          <a:xfrm>
            <a:off x="7093080" y="2060640"/>
            <a:ext cx="1439640" cy="79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mproved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la"/>
              </a:rPr>
              <a:t>Course profiles</a:t>
            </a:r>
            <a:endParaRPr b="0" lang="en-US" sz="24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First phase of redevelopment now complete for all undergraduate and postgraduate programmes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Tabs reorganis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la"/>
              </a:rPr>
              <a:t>New design applied</a:t>
            </a: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192" name="Content Placeholder 3" descr="early_example.jpg"/>
          <p:cNvPicPr/>
          <p:nvPr/>
        </p:nvPicPr>
        <p:blipFill>
          <a:blip r:embed="rId1"/>
          <a:stretch/>
        </p:blipFill>
        <p:spPr>
          <a:xfrm>
            <a:off x="-117360" y="0"/>
            <a:ext cx="926136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000000"/>
              </a:solidFill>
              <a:latin typeface="Aril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528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126792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l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0" y="-54000"/>
            <a:ext cx="91044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5:56:20Z</dcterms:created>
  <dc:creator>MZYSSPB2</dc:creator>
  <dc:description/>
  <dc:language>en-US</dc:language>
  <cp:lastModifiedBy>MWWSSADS</cp:lastModifiedBy>
  <dcterms:modified xsi:type="dcterms:W3CDTF">2013-11-06T09:26:11Z</dcterms:modified>
  <cp:revision>54</cp:revision>
  <dc:subject/>
  <dc:title>Slide 1</dc:title>
</cp:coreProperties>
</file>